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9.jpeg" ContentType="image/jpe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2.gif" ContentType="image/gif"/>
  <Override PartName="/ppt/media/image3.jpeg" ContentType="image/jpeg"/>
  <Override PartName="/ppt/media/image7.gif" ContentType="image/gif"/>
  <Override PartName="/ppt/media/image11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5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png" ContentType="image/png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25A5-BD57-45EF-8D17-EBE8C337B7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СИХОТЕХНОЛОГИИ В БИЗНЕ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кладная псих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СИХОТЕХНОЛОГИИ В БИЗНЕ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кладная псих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сихологические основы эффективности проведения совещ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лементы эффективного планирования совещ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Разработать программу совещания с учетом специфики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сихологические основы эффективности проведения совещ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лементы эффективного планирования совещ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Разработать программу совещания с учетом специфики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эмоций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дходы к управлению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переноса переживаний с эмоциогенных ситуаций на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 эмо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облемы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эмоций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дходы к управлению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переноса переживаний с эмоциогенных ситуаций на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 эмо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облемы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Отработка навыков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сихофизиологических техник релаксации и саморег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тодик: 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йти методики: Опросник структуры темперамента В.М. Русалова (ОСТ), Шкала реактивной (ситуативной) и личностной тревожности Ч.Д.Спилбергера – Ю.Л.Хан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Отработка навыков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сихофизиологических техник релаксации и саморег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тодик: 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йти методики: Опросник структуры темперамента В.М. Русалова (ОСТ), Шкала реактивной (ситуативной) и личностной тревожности Ч.Д.Спилбергера – Ю.Л.Хан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техники словесного убежд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е приемы и способы аргумен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эффективного воздейст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техники словесного убежд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е приемы и способы аргумен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эффективного воздейст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роведение диску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таблицу способов аргументации и их краткую характерист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роведение диску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таблицу способов аргументации и их краткую характерист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и причины аферы и мошенничество в современном российск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недобросовестного сотрудничества в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анипуляции и в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блуж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и причины аферы и мошенничество в современном российск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недобросовестного сотрудничества в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анипуляции и в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блуж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приемы контроля за манипулятивными играми в бизнес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и приемы работы с проблем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увеличение или преуменьшение возможностей, то есть создание "ложного имиджа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заманчивых условий сотруднич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Игра на конъюнктуре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тасовка информации для убеждения в эффективности коммерческого предлож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в сделку путем завоевания доверия на первом этапе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приемы контроля за манипулятивными играми в бизнес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и приемы работы с проблем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увеличение или преуменьшение возможностей, то есть создание "ложного имиджа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заманчивых условий сотруднич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Игра на конъюнктуре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тасовка информации для убеждения в эффективности коммерческого предлож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в сделку путем завоевания доверия на первом этапе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ЧИ В ИСПОЛЬЗОВАНИИ СОВРЕМЕННЫХ ПСИХОТЕХНОЛОГИЙ В БИЗНЕС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ЧИ В ИСПОЛЬЗОВАНИИ СОВРЕМЕННЫХ ПСИХОТЕХНОЛОГИЙ В БИЗНЕС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сихологического цикл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сихологического цикл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технологии управления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«Идеальная» система тайм-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 планах и органайзе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выки тайм-менеджмента: полезные и бесполез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ррекция план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Тотальный контр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оцессы управления времен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авила тайм-менеджмента, позволяющие повысить личную эффектив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Инструменты для реализации техник управления време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технологии управления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«Идеальная» система тайм-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 планах и органайзе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выки тайм-менеджмента: полезные и бесполез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ррекция план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Тотальный контр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оцессы управления времен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авила тайм-менеджмента, позволяющие повысить личную эффектив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Инструменты для реализации техник управления време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рактическое руководство по планированию работ (Техники Т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план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 разработки планинга и работы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Составить планинг значим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еб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рактическое руководство по планированию работ (Техники Т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план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 разработки планинга и работы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Составить планинг значим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еб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Техник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преумень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выполнения сложной и неинтерес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личной 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Техник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преумень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выполнения сложной и неинтерес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личной 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: общение,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характеристики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структур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онно-целев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цеп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правленческ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ведения сп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: общение,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характеристики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структур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онно-целев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цеп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правленческ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ведения сп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инструменты повышения эффективности коммуник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муникативные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ременные средства коммуникации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правленческ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лияние информационных технологий на организацию рабочих мес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гр и упражнений на понимание вербальной и невербаль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инструменты повышения эффективности коммуник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муникативные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ременные средства коммуникации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правленческ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лияние информационных технологий на организацию рабочих мес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гр и упражнений на понимание вербальной и невербаль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логического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тимулы, побуждающие к эфф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ферические стимулы, отвлекающие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вним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референтные пережива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логического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тимулы, побуждающие к эфф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ферические стимулы, отвлекающие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вним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референтные пережива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3E5D-12C0-4EE2-9E91-382A28B18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B08A-FA2B-4FA4-B9B0-99F4EB577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CCBF-E39C-41A3-A618-0052E51D3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B231-368C-4985-B933-27761EE31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AB62F-A321-442B-A372-8CAFB9CA0F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2449-F2AC-40D7-A7DC-0C7F3C8496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E487-5C0C-4927-945E-6250807BEB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2482-AB96-4582-B5F6-3222D820C3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E33D-AABD-4A41-A2B4-7680979B04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DE02-1C29-4B0D-9792-4761BD5394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625B0-F1B4-4D12-A872-C419DE38D2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B4C8-132D-416B-ADF8-2D98A5E41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2BBC-D78A-4B61-8C89-81973FDB1C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3586-5F43-427B-8F37-5926E8B885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FB23-7112-4EB4-B4AC-A4CC553B97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90B36-8A20-47B4-A07A-413F08770C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DD924-0345-410E-BB2D-0DE7CC6401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98B-6213-48C4-80EB-8BB1D0B022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B0A-12E0-4454-B2A0-FD67A1D053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706-02DB-4E4A-9C9D-7A97E083389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E98-388C-4FA5-80E5-53B1644981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9A5-9854-4AA6-816E-BE5DBA1B25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A1556-8DD5-4AD9-98B5-EDD0BD0639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A4B-1383-4422-B07E-C652F286FA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571-4F54-4CA9-ABE7-96A838AF0C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A54-014B-42B5-BBA1-495D1C60B0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B80-3D00-4DDB-A9D4-D572E73AAA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404-DDA7-4D1A-ABEE-5FFA200224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5F1-126B-4801-A0A7-77737F9051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6FC-4F03-4977-A5C5-D80D913A14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4A47-B27A-4ABD-90FB-4374BCED67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37FC-CE0E-4A8B-B045-5E4F1B8A9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498E-5EFF-4D96-8FAD-F8AB2886E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DD0D-5F42-427E-A592-15DA870F1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F5A1-C432-4F92-8F4C-A934E0D9E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A300-B537-4D2A-BEB4-1FBE63725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7640" y="6380280"/>
            <a:ext cx="136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&gt;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 </a:t>
            </a:r>
            <a:fld id="{F5D5F0E8-DAB2-45FD-9AE2-11F720DB079D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79240" y="160812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07640" y="6380280"/>
            <a:ext cx="136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&gt;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 </a:t>
            </a:r>
            <a:fld id="{597CFD5A-61BB-4A67-906B-EA5304D2FEC4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fld id="{AFA4E3DD-7EB6-4ED8-8F6D-B94C4306A92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79240" y="160812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720" y="1412640"/>
            <a:ext cx="4464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ОВРЕМЕННЫЕ ПСИХОТЕХНОЛОГИИ В БИЗНЕС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3" name="Picture 9" descr="logo"/>
          <p:cNvPicPr/>
          <p:nvPr/>
        </p:nvPicPr>
        <p:blipFill>
          <a:blip r:embed="rId1"/>
          <a:stretch/>
        </p:blipFill>
        <p:spPr>
          <a:xfrm>
            <a:off x="8153280" y="250920"/>
            <a:ext cx="739800" cy="547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01"/>
          <p:cNvPicPr/>
          <p:nvPr/>
        </p:nvPicPr>
        <p:blipFill>
          <a:blip r:embed="rId3"/>
          <a:stretch/>
        </p:blipFill>
        <p:spPr>
          <a:xfrm>
            <a:off x="6516720" y="4508640"/>
            <a:ext cx="934920" cy="1512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7"/>
          <p:cNvSpPr/>
          <p:nvPr/>
        </p:nvSpPr>
        <p:spPr>
          <a:xfrm>
            <a:off x="584280" y="5310360"/>
            <a:ext cx="41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«Прикладная психолог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4. Психотехнологии воздействия на группу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Психологические основы эффективности проведения совещаний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1. Элементы эффективного планирования совещания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: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 Разработать программу совещания с учетом специфики коллективного восприят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5. Психотехнологии управления эмоциям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оль эмоций в жизни человек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подходы к управлению эмоциям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Механизмы переноса переживаний с эмоциогенных ситуаций на нейтральные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ефлексия эмоций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проблемы управления эмоциями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97" name="Picture 6" descr="basic_emotions_600"/>
          <p:cNvPicPr/>
          <p:nvPr/>
        </p:nvPicPr>
        <p:blipFill>
          <a:blip r:embed="rId1"/>
          <a:stretch/>
        </p:blipFill>
        <p:spPr>
          <a:xfrm>
            <a:off x="6516720" y="1557360"/>
            <a:ext cx="2279520" cy="1224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98" name="Picture 4" descr="masks"/>
          <p:cNvPicPr/>
          <p:nvPr/>
        </p:nvPicPr>
        <p:blipFill>
          <a:blip r:embed="rId2"/>
          <a:stretch/>
        </p:blipFill>
        <p:spPr>
          <a:xfrm>
            <a:off x="7164360" y="5084640"/>
            <a:ext cx="1260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5. Психотехнологии управления эмоциям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0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Отработка навыков управления эмоциями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Отработка психофизиологических техник релаксации и саморегуляции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Аутотренинг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Якорение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- Проведение методик: 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Пройти методики: </a:t>
            </a: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Опросник структуры темперамента В.М. Русалова (ОСТ), Шкала реактивной (ситуативной) и личностной тревожности Ч.Д.Спилбергера – Ю.Л.Ханина,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59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6. Психотехнологии убеждения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нятие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«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ехники словесного убеждения»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Эффективные приемы и способы аргумент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авила эффективного воздействия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03" name="Рисунок 3" descr="b_46459c0b65c82df6ecd026c47d3f2cee.jpg"/>
          <p:cNvPicPr/>
          <p:nvPr/>
        </p:nvPicPr>
        <p:blipFill>
          <a:blip r:embed="rId1"/>
          <a:stretch/>
        </p:blipFill>
        <p:spPr>
          <a:xfrm>
            <a:off x="1258920" y="4941720"/>
            <a:ext cx="1908000" cy="1224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11228f676349b8a_b"/>
          <p:cNvPicPr/>
          <p:nvPr/>
        </p:nvPicPr>
        <p:blipFill>
          <a:blip r:embed="rId2"/>
          <a:stretch/>
        </p:blipFill>
        <p:spPr>
          <a:xfrm>
            <a:off x="6732720" y="5157720"/>
            <a:ext cx="1800000" cy="935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Users\Администратор\Desktop\marketing9_01.jpg"/>
          <p:cNvPicPr/>
          <p:nvPr/>
        </p:nvPicPr>
        <p:blipFill>
          <a:blip r:embed="rId3"/>
          <a:stretch/>
        </p:blipFill>
        <p:spPr>
          <a:xfrm>
            <a:off x="3995640" y="5229360"/>
            <a:ext cx="194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30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6. Психотехнологии убеждения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СЕМИНАР 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дготовка и проведение дискусс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омашнее задание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Составить таблицу способов аргументации и их краткую характеристику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08" name="Рисунок 5" descr="iStock_boxing.jpg"/>
          <p:cNvPicPr/>
          <p:nvPr/>
        </p:nvPicPr>
        <p:blipFill>
          <a:blip r:embed="rId1"/>
          <a:stretch/>
        </p:blipFill>
        <p:spPr>
          <a:xfrm>
            <a:off x="6588000" y="2492280"/>
            <a:ext cx="187956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2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7. Современные психотехнологии: манипулятивные игры в бизнес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нятия и причины аферы и мошенничество в современном российском бизнесе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Формы недобросовестного сотрудничества в предпринимательской деятельност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Методы манипуляции и введения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в заблуждение.  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11" name="Picture 2" descr="C:\Users\Администратор\Desktop\125.jpg"/>
          <p:cNvPicPr/>
          <p:nvPr/>
        </p:nvPicPr>
        <p:blipFill>
          <a:blip r:embed="rId1"/>
          <a:stretch/>
        </p:blipFill>
        <p:spPr>
          <a:xfrm>
            <a:off x="6659640" y="5013360"/>
            <a:ext cx="21924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2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7. Современные психотехнологии: манипулятивные игры в бизнес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02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Методы и приемы контроля за манипулятивными играми в бизнесе</a:t>
            </a: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 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етоды и приемы работы с проблемами: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еувеличение или преуменьшение возможностей, то есть создание "ложного имиджа«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едложение заманчивых условий сотрудничества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"Игра на конъюнктуре«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одтасовка информации для убеждения в эффективности коммерческого предложения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Вовлечение в сделку путем завоевания доверия на первом этапе.    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14" name="Picture 5" descr="image009"/>
          <p:cNvPicPr/>
          <p:nvPr/>
        </p:nvPicPr>
        <p:blipFill>
          <a:blip r:embed="rId1"/>
          <a:stretch/>
        </p:blipFill>
        <p:spPr>
          <a:xfrm>
            <a:off x="6948360" y="3213000"/>
            <a:ext cx="19796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6084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УДАЧИ В ИСПОЛЬЗОВАНИИ СОВРЕМЕННЫХ</a:t>
            </a:r>
            <a:r>
              <a:rPr b="0" lang="ru-RU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ПСИХОТЕХНОЛОГИЙ</a:t>
            </a:r>
            <a:r>
              <a:rPr b="0" lang="ru-RU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В БИЗНЕСЕ!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059280" y="2276640"/>
            <a:ext cx="2808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360" y="1834920"/>
            <a:ext cx="46083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3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исциплина психологического цикла: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исциплина по выбору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28320" y="3652920"/>
            <a:ext cx="584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rebuchet MS"/>
              </a:rPr>
              <a:t>#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69" name="Picture 6" descr="logo"/>
          <p:cNvPicPr/>
          <p:nvPr/>
        </p:nvPicPr>
        <p:blipFill>
          <a:blip r:embed="rId1"/>
          <a:stretch/>
        </p:blipFill>
        <p:spPr>
          <a:xfrm>
            <a:off x="8075520" y="351000"/>
            <a:ext cx="739800" cy="547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02"/>
          <p:cNvPicPr/>
          <p:nvPr/>
        </p:nvPicPr>
        <p:blipFill>
          <a:blip r:embed="rId3"/>
          <a:stretch/>
        </p:blipFill>
        <p:spPr>
          <a:xfrm>
            <a:off x="6012000" y="472428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659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Тема 1. Психотехнологии управления времене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00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 психотехнологии управления временем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2. «Идеальная» система тайм-менеджмент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3. О планах и органайзерах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4. Навыки тайм-менеджмента: полезные и бесполезные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5. Коррекция планов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6. Тотальный контроль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7. Процессы управления временем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8. Правила тайм-менеджмента, позволяющие повысить личную эффективность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9. Инструменты для реализации техник управления временем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74" name="Picture 8" descr="b86"/>
          <p:cNvPicPr/>
          <p:nvPr/>
        </p:nvPicPr>
        <p:blipFill>
          <a:blip r:embed="rId1"/>
          <a:stretch/>
        </p:blipFill>
        <p:spPr>
          <a:xfrm>
            <a:off x="7524720" y="3357720"/>
            <a:ext cx="1295280" cy="16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Тема 1. Психотехнологии управления времене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Практическое руководство по планированию работ</a:t>
            </a: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 (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Техники ТМ)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рименение планинг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Шаги разработки планинга и работы с ним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: 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оставить планинг значимого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для себя проект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77" name="Picture 6" descr="42051"/>
          <p:cNvPicPr/>
          <p:nvPr/>
        </p:nvPicPr>
        <p:blipFill>
          <a:blip r:embed="rId1"/>
          <a:stretch/>
        </p:blipFill>
        <p:spPr>
          <a:xfrm>
            <a:off x="7451640" y="4437000"/>
            <a:ext cx="1405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615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2. Психотехнологии самомотиваци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онятие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инципы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Развитие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80" name="Picture 4" descr="21"/>
          <p:cNvPicPr/>
          <p:nvPr/>
        </p:nvPicPr>
        <p:blipFill>
          <a:blip r:embed="rId1"/>
          <a:stretch/>
        </p:blipFill>
        <p:spPr>
          <a:xfrm>
            <a:off x="7308720" y="5013360"/>
            <a:ext cx="9432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6516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2. Психотехнологии самомотиваци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СЕМИНАР . Техники самомотивации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ехники преуменьшения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ехники выполнения сложной и неинтересной работы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иемы личной 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812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3. Психотехнологии эффективных коммуникаций в бизнесе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ctr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: общение, коммуник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одержание и характеристики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Функции и структур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Мотивационно-целев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Интерактивн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ерцептивн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сихологические особенности управленческого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сихология ведения спор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85" name="Picture 5" descr="20"/>
          <p:cNvPicPr/>
          <p:nvPr/>
        </p:nvPicPr>
        <p:blipFill>
          <a:blip r:embed="rId1"/>
          <a:stretch/>
        </p:blipFill>
        <p:spPr>
          <a:xfrm>
            <a:off x="7380360" y="5589720"/>
            <a:ext cx="961920" cy="838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18"/>
          <p:cNvPicPr/>
          <p:nvPr/>
        </p:nvPicPr>
        <p:blipFill>
          <a:blip r:embed="rId2"/>
          <a:stretch/>
        </p:blipFill>
        <p:spPr>
          <a:xfrm>
            <a:off x="7524720" y="2060640"/>
            <a:ext cx="7333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30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3. Психотехнологии эффективных коммуникаций в бизнесе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00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Методы и инструменты повышения эффективности коммуникаций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1. Коммуникативные свойства информаци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2. Современные средства коммуникации в менеджменте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3. Управленческая информ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4. Влияние информационных технологий на организацию рабочих мест. 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роведение игр и упражнений на понимание вербальной и невербальной информаци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4. Психотехнологии воздействия на группу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 психологического воздействия на группу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пецифика коллективного восприят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стимулы, побуждающие к эффективной деятельност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ериферические стимулы, отвлекающие внимание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есурсы внима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е «референтные переживания»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91" name="Picture 4" descr="22"/>
          <p:cNvPicPr/>
          <p:nvPr/>
        </p:nvPicPr>
        <p:blipFill>
          <a:blip r:embed="rId1"/>
          <a:stretch/>
        </p:blipFill>
        <p:spPr>
          <a:xfrm>
            <a:off x="7524720" y="5157720"/>
            <a:ext cx="774720" cy="1447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19"/>
          <p:cNvPicPr/>
          <p:nvPr/>
        </p:nvPicPr>
        <p:blipFill>
          <a:blip r:embed="rId2"/>
          <a:stretch/>
        </p:blipFill>
        <p:spPr>
          <a:xfrm>
            <a:off x="7164360" y="2637000"/>
            <a:ext cx="157176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6:05:40Z</dcterms:created>
  <dc:creator>natalie</dc:creator>
  <dc:description/>
  <dc:language>en-US</dc:language>
  <cp:lastModifiedBy>LEGION</cp:lastModifiedBy>
  <dcterms:modified xsi:type="dcterms:W3CDTF">2016-01-11T10:04:13Z</dcterms:modified>
  <cp:revision>33</cp:revision>
  <dc:subject/>
  <dc:title>Современные психотехнологии в бизне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